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EC6F64-3337-4A2D-9BF0-AE96BD503D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097A8E-BD49-452B-B561-23E8283730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69779A-0F33-4869-A050-DF6DDAA1AE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300740-7209-4E3B-A346-CA69FF1FA5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1C6045C-4FFF-4CE6-87F1-640CFF39A18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1AA779-B6DC-4F21-A583-EC313D51CB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E5415D-BFDF-4DFA-9C75-A125310B12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2C0311-A632-4F55-AAC1-8A1C0AA15A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D32089-F902-4A55-90DA-B41DAEACB3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532BE4-958E-4C59-BB32-6ADB9AFFB7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20D7D8-285D-40D3-ABFD-7D0961B317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2F3D1D-5E7B-48B1-B469-047AF4A1CF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22421E-50D6-484A-8664-07B2BB4A87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5859AB-9BF8-4E87-B63E-F3BFBDB1D6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BD3BC2-0FFB-4E61-9BB1-3BB0C844E4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F460FB3-0775-486A-8FBC-17B742777CE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E58D006-46A3-48BF-B052-34D2C37E300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995E54-C7B6-44E2-98C4-D0EA18C3F6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9DC045-137C-4173-9A63-5B37758C1F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008FEC-D0BB-4DF0-8EA2-0EAFEC43F0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1E1228-EFC4-4319-BF05-67B0D63723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76D5EB-E5A6-475B-9826-784C9B8C08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6C8201-A3A2-430E-9215-35C5E7844F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197B92-D4B5-46B1-B7F3-8E32BF62AA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69BF34-A574-406E-BAC6-85DFE951D5D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0FB94C-284C-478E-97D1-B354CA269D7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BF647C9-CAB1-4651-8063-20E9BA9375B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F8E103E-A215-4D34-AEED-FEA321EFABBD}"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02648D-7CF3-40E3-ADAA-9134C932E696}"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A53E31-FE13-4597-A85A-3F8A6E1FC720}"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3FE783-E82F-4088-9E9C-552045272A3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7A5533-F6BC-45D6-A923-80D1608A4EBA}"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BE35DC-F367-4E2A-9689-E0ABA675E953}"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1B4EC0-189A-4AB3-9D1A-B72F598496A8}"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10387A-5A40-4F59-87E8-79312EF29F4C}"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5916EA-48BC-40D2-9269-F77D8237E494}"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A8C637-8C34-44FA-BF0B-8DC8C3803273}"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C0AC5F-6C97-40EE-8DD8-8BBE62A88D8F}"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7ED285-6DD4-4779-B58A-2B8D5B52FE74}"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5AE58F-0D7A-40D0-ACB8-95C6E9EC9A1D}"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713C46-7C24-40A7-B5D2-CADDCE7935C1}"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5C5042-9CC4-4A07-B0AB-D9381F6E75C3}"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5C9DD5-7E5F-49E7-AE6C-8CFFE8BCE7E8}"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133667-8548-4649-B33A-FA88E2EB989F}"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E7D9E2-7630-4E30-8C7E-081DE5076E6C}"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8DDB50-CF29-47E6-BA74-543F6D922CAF}"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33DAFE-6A52-498E-B8FF-15F985284B5C}"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3A40A6-0173-435D-AE67-2EF9AD9456E4}"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55D268-087D-4535-B1F1-1E503043246C}"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B29C20-78EB-465D-92BC-0186C9CD35E7}"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932B1A-051B-45C9-9A91-A9220856BADD}"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3E1873-5460-4A7E-93EF-5F83872F5D28}"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2D0C77-2A6E-47D7-A3FE-6CC79CF34330}"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D1A3E02-7DD4-4163-BF48-AD5A0E51C620}"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232269-AE8C-40B4-8A60-6442FEA99AF9}"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AA11B4-5484-4D85-80BA-6C21FA37752C}"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09A489-3880-4821-BAE5-E1C1FA2BFA53}"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75B1BA-D861-4318-9272-C7AB13E91528}"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A64E56-711F-4D11-A306-4D2FABA2A2A6}"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7F1ECD-709C-4E21-B707-29BADF944479}"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BE12B9-6179-4129-972E-817AFBEAAC1C}"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4D2B39-04B5-4B84-861A-93AE5D2D315B}"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3F816B-AF0D-4CCF-AB1D-B432977040DD}"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D7E0AA-33E8-4D8F-955D-48360E728560}"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59C5CE-0883-40A6-82C9-02DDF3529BF6}"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7DFBA4-418E-41D4-AFAF-5ABAEFBA442C}"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716214-AB19-40C8-88AB-751D05570755}"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EAEF3D-2A2F-4C06-B155-5C291717C99E}"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7561C4-F00B-4CED-9BC4-CD312C189BF6}"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7434FD-C79E-499C-81CE-B35B11E2EA31}"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CD54EE-9CE2-4231-AF1D-F6370F80862A}"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268C10-BBD3-4FFC-9C51-804BA695029B}"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AAD83D-DEA2-4633-938B-0462B47D1961}"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15EE28-1AE4-421A-B359-BE11821F6C3A}"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8491381-642A-4E17-AD48-9166E8E43A23}"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A3144E-E9F0-4C3D-A22F-40BD1B556AF6}"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1E1C06-A13D-41BD-BE77-4BAA7F433FB9}"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AF7565B-43F9-4FBA-9E68-A522FF6B72C1}"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18481B-FEAE-4722-9A43-CE3A9D3F8BB7}"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3904FB-7C15-4E79-A176-E968BD2205AB}"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13799B-4429-4030-A5D4-9BE2A0B5D994}"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08825D-AE3E-47A3-82E0-B98B97363F10}"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31E7BA-CC22-4B2E-9667-C8FB6DA279C0}"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1D37CB-9364-4F35-865F-6535269C1CA5}"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927AAE-ACE6-439D-954B-B6F8CA0A2A10}"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0EDA47D-1FBA-4A00-B2E2-5800C5DC70E2}"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EF9D9E-1976-4817-B4D8-E6DC73E938E7}"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47BE99-380C-4158-B982-08D91FF51DF1}"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3FCFDC-A26E-4D6A-B2FE-19AD18C38468}"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EC49B8-DFEB-443B-9EB4-E9029DC4737C}"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38062D-D663-4B4D-984D-1F04474B7409}"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F928F76-607E-4296-9623-63DF4EA3FE5C}"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905A74-F999-465D-861E-623E459F4D19}"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01AC8E-7336-4A96-8AA6-D8C78173BD1E}"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BE003D-FA5A-4E85-A9A3-3812ECDB479F}"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015829-8185-4250-8E07-E07D74CDE931}"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01BC0E6-3E3E-4310-93A2-5B35C8A0A3BA}"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8D624C-4DB3-47A0-85F4-DF12431354CA}"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DFC884-BB3B-4379-997E-F5FC9E467ABD}"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1435F7-BBE0-4A82-B713-85324EAE1F3B}"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D12D10-A6A0-4ACD-BC3F-074A5060E9AC}"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F41161-D19D-4404-AEFC-A15608905249}"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AFC5F4-256B-48FD-B837-94F81DD63F4D}"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BAB12ED-6592-4569-9A6D-C6B0C09FA420}"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B9ED8D-5C28-4C2E-AFE9-235557545B3C}"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CA1538-B703-4451-BF54-AEBBF6D599E1}"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B461CF-F376-4B97-9B5C-535B754DBBD4}"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3F35E89-1509-4016-9A73-68AA8F4372C9}"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711BED-1750-486C-84A3-B529994E8F65}"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26FEC3F-426A-429F-B24D-9EE898CA64DD}"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CCD90A-8893-40B9-9AB6-E99A1F16DEC4}"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D669B3-DCC7-40A4-A111-160F2D0B3C68}"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0C28FD-819C-4A68-A4BD-7C6000D4E698}"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D1415E-C194-4708-AB8E-6732BA4FD372}"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A425DC-9F7C-4081-BF93-992AB88227C3}"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FA816F-A39F-4180-9AC7-236634F93F01}"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966F59-942D-40B6-B237-8720CBA5B6E7}"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F161AE-6688-4615-95E6-0AEB90C54DC7}"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28B34B-D986-42EC-A721-016A78D27219}"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AB2FD0-1EAF-480B-A203-CDB195A27A53}"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F9ED4F-91F7-4614-AC16-5AC3866345D3}"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459982-B8FA-4F4E-B653-69E00F48E0BF}"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462805-482B-49DD-98FC-3817F37D3551}"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4E6737-8814-486A-B3EF-CA434DF987D1}"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D4759A-3778-4D0C-8A6F-FDAE0EF56BD3}"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49F00B3-C780-474F-8B6B-4FE631DC60A6}"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C9BD71-43DB-460B-B1E2-640F38E4F580}"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BEE714-C7EA-4F62-9F39-902196A8E19E}"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B56104-9081-4E05-AC4A-EEA2F772BB29}"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C52E3D-436A-417D-9757-FF1B4A8A9CA4}"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EC78E4-6E0B-4915-A9AC-43DFC4677215}"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5AD22D-5B29-4502-919D-D60008796597}"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4CE3A4-9FDD-4737-A006-C74EA5D32C07}"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EABF65-5819-4048-B283-659560EBDE26}"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514112-6D45-41FC-9A9A-733B81259FA6}"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15D7FF-8AF9-4002-8D47-4732BF298CE2}"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C59BED-49F3-4D76-BD4E-1360457D89C9}"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46CD75-732A-4005-97B9-B883C96B36A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B97809-24DC-47A8-9BEE-DA0B9075251C}"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54C327-7290-45DF-B151-4F7D9C63F9AD}"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FC2F57-2F98-4DAA-BB28-AC2873352182}"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ADE22E-BB0C-436B-BD27-70C6A20AE4A5}"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AFF610-33A8-49CF-AC9D-CF6603D2FB9C}"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35A35D-1C9A-49B7-8853-D81054E4E19F}"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756969-4917-4621-AB78-CC592E5C854D}"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A874FA-4903-463D-A5CB-16B306A9DB38}"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D413E4-3DE8-43FA-8361-8565A8ED9D9E}"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3D747A-9700-4D1A-AC51-AFA036B06795}"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194864-B4F5-43A8-8E43-998FD56E20B3}"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665A14-C38F-4CED-8D0A-48EF1C98AB89}"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70365B-F27A-4057-B862-B0EAF31C8157}"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3B46C7-0003-433C-B9D1-2A7307020F51}"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AEC5D9-A454-4A9F-8CB7-2F8CE3AB1D9C}"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D44EA98-11E9-43D6-90BA-11ECAECE9F1E}"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74F6D3-67FF-4E64-AA0B-1EB18B5AD39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359BC4-F172-48CC-AECE-97FEBB735E0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DD3351-3F65-42AD-B309-6FF6E9E524F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2477AB-5B0D-4678-B86B-206D5BAA685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5636F9-557D-41F3-8D4A-48CFAF53F50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78F5D1-106A-4A6C-9E7C-D13F9C0CA87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D2C7B01-0696-413F-9477-FEE359082FD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1FC101-C36B-475E-86E5-7C489977968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2319AE-A54E-491B-A518-2F441CF250C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381175-4A4C-46A0-83EA-0E817E31617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DE03A2-6927-4AAA-B695-865DF50FCF2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BC7990-032A-4E5E-A31A-068AE55CE54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AEE361-BEA3-477D-91B3-9AB431DCA52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FCC4EB-B7FE-486A-A03A-A24E955B304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077720-77A5-4FA7-B331-748C95DE9E9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119D29-2991-433C-8814-9BB9C7A04DE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13F303-3703-4BDD-A211-75B6AAAF0B8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28605B-988B-4119-93AD-8392878C9A2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EF651A-2DF6-44F3-878C-A42052D5451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9B3F00-A4B9-4896-A952-78436BB48FD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FA3CF7-81CD-445C-B9FD-5D4B8598774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31E1D9-5401-402A-98B7-32ED471A424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3E26E7-D0BB-444D-9EB1-F6CDE339D10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698227-51FD-48A9-ADBA-88ABC5FFBDC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231D23-5CF4-4CA9-BF65-B862498D527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415024-032C-4AC3-B2BB-4A8DB657779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FF549B-EA85-468A-8800-5ADFEE079DE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07CD0E-A86C-4ACC-990A-1546EBA2112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E2B66F-C73E-4645-B0F7-B1A403705A0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73FD2F-5B22-4ADC-A36B-2AE924C112D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0BAD1A-DC79-4032-85A8-DF07CD7B46A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904C24-A544-4BF2-BAB8-72BC19C5B91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ECB481-C3FB-4BED-8116-8DF42226960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594D5B-73FC-44C2-A169-B5E02F51BF0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985345-EC8B-42B8-BA64-45D250C5EA8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4EEAD1-D4F2-42E0-8D75-62AC890B5CC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08D6B4-640E-4E53-A9AA-BD3AFFEFAFB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DD1BA6-9713-4B20-B4DB-690C22D278A5}"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EF3D0D-E738-4CE0-B68A-F9B12CA77E5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006758-0A87-4CF8-81DD-DB06FC97911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1F7098-4639-4C4B-9300-6FDF69CF8BC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CB6DE1-1CEC-453F-80EE-03859B77144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F87BAB-D096-41EA-97AA-1E548101794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189F53-9D64-424D-A3E9-B903A8C94CB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877EFB-C0AD-4621-9612-6435E454FE58}"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CE8A4C-9990-48DE-A731-503E0549D109}"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69018A-093B-4B77-8F79-D77E074A3AF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4A7327C-7DB8-4B92-81E5-DA54C1C0225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47149E-8B08-4C2C-A8F8-0D81E3397A8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EBE07E-2677-4E57-93C3-A76EBF92BED4}"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4D26A7-DAD0-42AD-86AE-641E3864DA2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4CCB89-8F8F-4A6E-B502-DA67EB773DE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7BD978-3F8F-4AAA-9793-D708EEBBF05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CA8C49-9E1E-484F-A2E2-5CA97FA64A8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9805F8-036C-4980-A14E-082BAB38F29A}"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069B19-2838-4F08-8DBB-2E201BAD246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3829AE0-13DF-4EB0-9F20-B0D2D6EF524E}"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3D7560-CD87-4B3C-A394-5DA999D21095}"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D51D8D-8420-4594-9137-BFD0BB69369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DE10E7-5048-4811-8D26-52D0D084B371}"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1FFF0F-9B69-4FE3-A7B9-F39C2EB4A7EA}"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F86FA8-503F-4E2C-8C8C-87FAD7B2C006}"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C7F778-1591-412C-9407-73DFB3B8DA6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8B5FA1-BB28-4198-8D78-5C100C36116F}"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15FC84-5BA1-4D24-818C-69FAC06C1DAF}"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D4AC4C-C14F-4BF8-B134-F60DA3FAA30E}"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923F39-3A61-4578-9A0D-1805EEB2E26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5157DB-8A4A-4FA8-BC12-D8BE9F310346}"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0C885B-0CC6-4FF7-BDA0-B3810E38467C}"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52F646-50B6-42AC-A5A5-B2C8360BF09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4B1565-B778-4962-9C04-8E6C09606A4C}"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F2BFD2D-8510-4FB7-81FE-0EC48FB2F5FE}"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FCDD09-7AD2-46EA-A450-57B705C98BD7}"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AF2B43-7AAE-4C00-8461-F79F5766C542}"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106160-BE4D-4D4D-854F-22DF68BDE41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2B586B-3FFC-4476-BC4B-076D44F12C65}"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0C7F4F-19F8-4B75-BA3D-24F1BC6FA390}"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E66A31-5E3B-462C-825E-D66AE372E38B}"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2ACCC8-D42B-405F-9752-8C04F14A2654}"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FAB768-9898-4DA8-B745-6060B57F84B4}"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E42C16-BD8D-464C-B46B-484242A15C6A}"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B82DEB-AD0B-4400-A74A-6DF60E965618}"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98FFE2-8DA6-4581-8726-6745DF61A5A9}"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AFEC52-7979-43CE-90F9-48662661734E}"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ABD725-DEBE-4AEA-A648-C1AC2E860A78}"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