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9341D8-A8A1-43B1-9F58-ACC7AE34B2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3D07B1-AE64-44BC-A8B3-E8EA21A238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B911C2-94CD-4454-969F-195C89D9ED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B19E94-2315-467B-A7CE-98BE9A129F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3F9F94-2639-4C60-866B-6ABF2B5AAC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28766B-023B-4317-84DA-18827E2311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A4E7A1-D27E-4C89-BB99-1736EAAEC5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25CFC6-ED97-48A1-B35F-91A7CF7AA3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9552F8-F1B8-461A-82EC-A6B2881375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750732-A618-47F1-82DC-E76C0E2AC3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4950AE-1CC5-4EDE-853A-403DC2B399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72964C-E5BE-4F7F-9DF6-32700A6503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000D91-89B8-4AEC-AA67-5617A5843C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FF9B31-2897-48C4-85BA-7601A70470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869BE5-2186-4B93-B3B3-25DD1DDB6A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81D587-8C95-4D2B-9B42-ECF260784D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F07D04-6D13-431A-A2CD-12223180EE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27DD0B-F1F4-4B2E-A202-98545B31C9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895241-2533-4859-B029-CC8219776E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DCF66F-683B-4169-8333-9895A7BA1F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452A85-856F-4761-8966-E25EDF6C1A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ED0A78-9568-4B4C-9E2C-8D8E90B4BD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553BD5-AB6F-4FC8-BCB0-8FC97A260D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1BFDFA-D854-468C-9A59-04B472FF48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D375B-55F4-4342-9BFA-A10D1E1F8FB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5D3E7-C100-420E-B4EA-F87F9890BBD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52758D3-7FAA-4CD8-8335-827C165AF29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28ADF3F-164A-4FB5-B786-076D6193F41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6CA87C-6D67-4B8D-B2B3-C5C302864EE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267755-707C-48C7-AD49-AA204270EC9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98D188-803E-417F-ACC4-FE7F28AEA62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F87950-9054-4E96-B03D-64D87474A5C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D7FD77-3DA9-4CD6-84A6-C26F04BEA88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FDE65A-A8CA-43E3-9E5F-64E52B14604C}"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D3353A-FBD3-430A-A794-E5ED7431E1D5}"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6AB710-5166-46DF-AE81-9A209F8CB353}"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F17556-B72E-4284-B052-80EB5193D657}"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92B624-6F18-4F45-A0C0-F80C121986B6}"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A2E67B-E1EB-45BD-A65A-4D5F328079B7}"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A064DE-21A8-41D7-B2CB-BB64283078D4}"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37B90E-0411-49B2-B47C-EF754B275AD9}"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512109-676B-4B80-929B-074C44EBDC50}"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65999A-0DA1-4195-9797-39DECA35667F}"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DB43B6-9379-43BA-BA1C-2D8FFF257C47}"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5DF602-8467-49BF-9789-2A11ED418926}"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0E9EB7-630D-40A1-8311-4C5212ABA06F}"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E962DC-2FA8-4782-991C-D217C6D2CFBD}"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2A91E8-3123-4013-9219-D504CCECA915}"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D6E54C-B5EE-4A9B-91A0-8FC0CCA880B0}"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B32D83-EE3D-4CE7-BE85-8CE79AF33C20}"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601735-3566-43CE-82C9-18873B101AAB}"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BD5F08-1646-43CE-93CF-83A2FEE238D3}"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5FA115-8DE3-4BC1-BF55-43CA3F1BCC84}"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A8DE913-42A3-4CBB-A10B-2E796203FDC1}"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9DB2FD-94C2-4673-ADD1-61560563812E}"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03BAD8-AC21-4DD9-823F-36B545009DBB}"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41E2DB-B3DC-4A36-B117-F530ACEF875D}"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D4CFC6-7336-400B-848C-669C48720612}"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66ABB3-2358-4D21-9A66-C3C847EBE054}"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1A8A6B-1076-425E-A44F-9F7F8518F480}"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A02518-DF60-4D77-9C96-377C4D39F4E5}"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DB59CA-7D50-481B-AAD5-92C19776A034}"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ED46BE-0DE3-43AE-BC8A-C8E63B18965B}"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D19C24-928A-4B8A-B598-5C0FDACD1A90}"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697C96-857F-4456-8E14-DDE732F5051F}"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6607DC-835D-4D26-8535-2CD911604CC6}"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7D0A6C-4825-441F-B84A-ABD9D7141AA1}"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33E010-7100-4810-8119-2433A7021AF2}"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8EE1C4-8877-4B58-8F12-90441581ADFB}"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45E848-6BE7-4D21-949F-33469CB25DEC}"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D4636E-3367-4CA3-AB98-A9B2C199E041}"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DF47B1-36EF-45FC-941F-7C4478A77852}"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A10021-2A81-4B20-8A3E-685E934CAA58}"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55F209-7A2A-47A6-8FD0-71DCAFD9E74F}"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421D418-3F29-4783-A714-0D3E84842481}"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7B6645-F7C5-4DF6-B956-395911ED1B2A}"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9D66E6-5F0E-4A77-B48A-7DBC04D1905E}"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4BB69EE-EA81-45CD-8F19-E05E6AD3C3D5}"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9F8D27-2354-4D39-A875-8BDAE06762BB}"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15CB1E-23B0-41E8-A7BD-E3735AE4176A}"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6850EC-085C-4BD9-9FF6-832E4120346A}"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5A914F-050C-4941-A3C9-3FCB63BF4208}"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BE06E3-D33F-4FD8-973F-86CA3A7FCF3A}"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DFE386-F995-4DCD-A9D3-894BAB991F7F}"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550243-FA30-4589-B604-5AB3D47FEC8D}"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AFF6E71-45B1-40C1-A2E8-6B1C7E0D9051}"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F5D0DC-1585-49BA-975F-4A93663298B1}"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F428DE-4D8E-41D8-987E-E5E5EE321BBA}"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1F10B4-038B-4272-986D-D2D5003DBB39}"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BDC632-5076-4692-BFF1-B9E765837E20}"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F55E2D-0DB4-4865-90CA-267E9229EA06}"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BB96160-923D-4AC0-9101-E1C788CBD330}"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4F229F-E06F-4AD3-9BF5-8AA332D3F42E}"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D5B032-BAD5-46B7-A6DB-5507AADDF2C1}"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0AE7C9-0A21-4261-B23E-5F63EB2AF376}"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7A637E-0B15-43BE-A365-6360624BE27F}"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CF53846-CA63-4ACF-8F0B-01DCC5566A1E}"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9120CF-DCB7-4FCF-94CE-F7D36DE38EB6}"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EEAB6E-9436-430C-9F61-C48B4344AC98}"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C1E207-2776-4882-BBB0-0FE87902B726}"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F52DE9-1128-46D3-A201-BCD10632AD03}"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4A053B-5E0D-4924-B024-E5F6C27FC736}"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A7E06A-AE01-422D-B5E4-FBFBCB54C96B}"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497B29B-CD85-4E84-ABB1-410E4FFEAEFE}"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9F205F-FBB5-43A5-B247-9A1FEA6D337A}"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273484-CD7A-4F10-8299-0BD946B7F017}"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F6BC33-5E0B-46E9-8007-1D19D6BD24E8}"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C28FE7C-66F1-4D68-A77F-1E3242433FDE}"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619BCF-348D-4375-8667-A061BEE9930C}"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990AE34-C0B4-4CC4-B80D-D397D374F8DA}"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C8FD80-822F-43FB-B394-1FAB88E0361A}"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90EBFE-68D8-4088-8429-B5F1E28A63A3}"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37C790-A66A-4BE0-98A2-0BCD7C2CB553}"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BC5392-6EC7-4DE4-9EA5-444E8EA95361}"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0EB8FC-9071-4AB0-BB83-B7CAD32C834D}"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0E2586-271B-4FEA-A823-02A76D38B235}"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BECC7E-C344-4BF4-B387-1F92A4ACCC56}"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74D05D-AE2B-4E1F-B36E-C31C42194E77}"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7B6C49-A88E-4266-99B8-E3E30CD2D5F5}"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A9FF6C-58A9-4217-B707-A6CE366FBBE9}"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34CA33-E523-4BB1-B17D-239E6E4FCA67}"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380A2E-02C6-4EBB-9E52-1C7193B903E6}"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F652FC-4746-4DC3-A999-F0E4CB97C53A}"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407210-AEDE-4CBF-B028-3C117FF68BEA}"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8284E1-B0A3-4C24-862E-5AB03E55956E}"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4DF7E7B-D776-48AB-8F46-16A431831305}"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F87C8D-D960-47E7-9F4C-7B89586E145D}"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7BAD11-DE89-4510-8967-FA03AC4F0A40}"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310DF3-A2F1-4945-A004-F42D28DF0EAE}"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4A79D5-F6F8-4143-B6CF-BE26C74B678F}"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3560CA-25F7-4F56-92D8-E68A951FAFA7}"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B4B01B-1DA8-4570-A8D3-52E6AAAD5327}"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7CE7AE-4CC5-4088-99D9-D530771E9E06}"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45E3D6-E50F-4845-AC29-8E83F037DA31}"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97A82E-EBF0-4ADE-A5CB-9F2196DAF8EC}"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9A180A-2593-4255-953B-F145F8C3D0F2}"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164C52-2238-46FE-BB38-AD28487F0675}"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188AAB-B487-421B-99BE-92ABD3F9CA4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4B8496-8A39-493A-B3C1-827D74931716}"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4C7647-D356-4F16-88A2-DA5F1EEBC906}"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CCE442-8AAB-4520-A6C7-B34F4F806853}"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8C85AB-186A-4A64-88A2-12B7B869C3AC}"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BB24E8-3A89-45AF-96CD-51F0A28FAE4E}"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5AB022-E730-490A-BC1E-A70F859E5D27}"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57F9B0-85E5-4041-AB65-4C527D4A9C65}"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FF07F0-2C1B-4071-82C2-41B5D9818572}"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C85532-6CD3-4639-8436-89F4A53BC7DC}"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4E493F-343E-4925-8B45-A4733E547334}"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48F105-FD01-4830-9778-14EC3C7BBD35}"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735E1C-3E09-4B1B-940D-8721ACB9405D}"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E58F7E-19E9-422D-BA3D-626FECF59E1D}"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20983F-2A94-45CA-98CA-BB78194C7B90}"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5D7016-49CB-48DD-9E7F-8081D3F6253F}"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6173D21-90B0-48B4-8B10-DFB9552EAF45}"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7DF968-B877-43A7-8D4A-86F76101BCE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497DE5-BE7F-4E98-AC9A-77D75E674E7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60D878-0449-4A26-B363-CF231F7821F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72DF59-B6A0-4AC1-B3EB-1A79EF58706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21B667-E302-4BAA-BE0F-D8449F262DB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B9FBA9-4AE7-412A-AADC-484B7A0F52A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F361209-3CA2-4862-929B-6B3B240D9A6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C6701C-BF54-47E4-8D21-2A0CFFEA832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71622B-BF7E-4B12-AECA-0860045F32A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0C3629-D62A-4A8C-A7D2-D1C48F2FA84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59FC2B-E908-4F00-9629-0EF6468CD33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B15F11-F0E9-407F-8061-EA16CD2219C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1F8FB0-874B-4617-AC9B-8C1FC3B6833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625F68-B70B-4C37-9235-943A64D2355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1053B5-8219-46EE-AFE6-54BE0764D8D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FE9D17-571A-4726-A57A-2A86F9052A9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6E5857-34BE-4D75-9EA4-29B608515EF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559774-F19C-46C7-87F6-1717A8AF371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C342F0-E3D9-462E-BB51-149F6386AA3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2CD73D-DE7E-4AF6-A860-4CEA610C709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DF6A2F-907B-4C27-AE43-F90594B2434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24187F-FD8C-4DB2-BCCF-4106189F9E4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5EB020-AB71-438D-A968-F62CF65752D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CA4DE4-A5EC-4079-A08E-54C9893A440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93D82D-0206-4295-B40C-D654E1D3DF3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0D4CC3-A7FD-4485-A78D-A305D60628D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ECDE62-2C9F-4D5D-9D81-504728B49B5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B77786-DEBE-4523-ABA3-6DE5D1E5210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4DAE11-95F2-4ADD-BACE-08536B9B816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7E1A66-7F4B-4940-9A47-E39BEC98EA7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7D835E-4E2F-435A-925B-9A40E9D473A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591F28-1162-435D-B9A7-6BED9E9FD2D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96E58F-FDF9-46E2-9DE0-B325622DCD0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23EFE1-08B0-4C85-A4CF-613FD032C4D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C821A5-18C4-4AC1-BE9C-FBD23B653EB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69F9C4-70CF-4683-BBA3-D0677C60349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F39F9C-81A2-42C7-91F7-9EE488AE22B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3449D6-B3A6-45B4-B49E-1FA31292099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205B57-B7BE-4E2B-947F-CE9A60910AB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AD769C-64D2-444A-9F97-12DA6E3C337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FD9D70-FC32-4E47-9FE4-D105B2BBBB1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9C77A3-0491-4A20-89E8-BCE60D165C7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2555F9-7F88-4BE1-AFFF-436500B0D26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8D3DB0-F211-4BCB-ADD2-7D4785FED02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2229A2-3D9E-4D98-9AA3-E8C775E3BF1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939F61-9D69-41D8-9E89-909E0DAA0F9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D78CAA-2AA6-43BF-9C3A-84F285529A8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55F34D5-9FED-47C9-871C-C75DE8A06D2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FCDBB6-3ED5-440E-AD24-63627ABD0C3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91F8D3-4E4B-47A9-8692-2C74CFC4AE8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BF14C4-2241-494F-8745-A349C31CB82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36332C-D3AF-4BE0-986D-D54B7920CBE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06CF32-FA15-4419-A056-079873CCE94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3B19BB-0F97-42AB-97B9-3F38FB1888D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5290E0-816C-4C21-96F5-69BE4EE7C9F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656BDE-F6B8-467D-8147-126B8BEBCE1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CF04F2A-E319-49C7-B3B2-B6AF7D1CD73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72FAE8-DFE6-4FD5-971E-9B72364C0D8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58B3F2-F668-46E2-8C50-F676BA1DCDD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48D2FD-0E1D-4ABE-B1C4-3CE77266B12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57617B-8340-4B33-A69F-30FFCD6A83D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B6F58D-3DA9-4A32-A461-948861452ED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FB70B2-2818-4CCA-943C-FC0A9D91E59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C667F1-D7A8-4832-BDCF-2AE6663C68C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35760B-1EFD-4527-9A03-67AB456AA84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8C711B-7028-402A-9E66-EEEA67FFF08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697FAA-B61D-4E78-92F7-CCB54775E4C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2F20C9-6CDE-455E-BEA7-4CA51FAA465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5F22B7-C115-40E5-AC2F-9AA3C4AB59A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7C8054-6D47-427E-ACA1-4ED5B01F0D4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A5B002-B541-4905-AABC-95B1C1FE203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EF3D638-1012-43EA-9A4A-9657F9A612C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17F9FA-0D78-45F4-9E07-E2CBAA5E45A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800AB2-98E5-4E6E-AC56-5BF1C770480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50A9C4-4E8B-4FE4-8CE2-5775A41F4A7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448862-A146-4D62-9A73-92F52AC7EA1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333EAA-92E1-41FE-80EC-FCB399BF0BE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7203DE-8A1B-431E-9FA0-399EFBB8CE5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D8B3FB-D5D1-4B80-AA34-E8415F8F70E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A4678E-A77C-4054-9B9C-B58BD34DF83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28EC5A-3E9C-4ECB-80AF-749994362B6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CB5F8D-292E-48B2-B3A3-76CB6B7B3F1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11C9E7-F790-4659-883E-5F538DF9488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D16BF6-D63E-4C85-9C1C-397B6AE9B77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15B1E8-0FA6-4F29-BC01-BCA04AE3C80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